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10.jpeg" ContentType="image/jpeg"/>
  <Override PartName="/ppt/media/image7.wmf" ContentType="image/x-wmf"/>
  <Override PartName="/ppt/media/image5.wmf" ContentType="image/x-wmf"/>
  <Override PartName="/ppt/media/image30.png" ContentType="image/png"/>
  <Override PartName="/ppt/media/image28.wmf" ContentType="image/x-wmf"/>
  <Override PartName="/ppt/media/image6.png" ContentType="image/png"/>
  <Override PartName="/ppt/media/image32.wmf" ContentType="image/x-wmf"/>
  <Override PartName="/ppt/media/image29.png" ContentType="image/png"/>
  <Override PartName="/ppt/media/image16.wmf" ContentType="image/x-wmf"/>
  <Override PartName="/ppt/media/image8.png" ContentType="image/png"/>
  <Override PartName="/ppt/media/image14.jpeg" ContentType="image/jpeg"/>
  <Override PartName="/ppt/media/image13.png" ContentType="image/png"/>
  <Override PartName="/ppt/media/image9.jpeg" ContentType="image/jpeg"/>
  <Override PartName="/ppt/media/image24.png" ContentType="image/png"/>
  <Override PartName="/ppt/media/image11.jpeg" ContentType="image/jpeg"/>
  <Override PartName="/ppt/media/image31.wmf" ContentType="image/x-wmf"/>
  <Override PartName="/ppt/media/image12.jpeg" ContentType="image/jpeg"/>
  <Override PartName="/ppt/media/image4.png" ContentType="image/png"/>
  <Override PartName="/ppt/media/image3.png" ContentType="image/png"/>
  <Override PartName="/ppt/media/image25.wmf" ContentType="image/x-wmf"/>
  <Override PartName="/ppt/media/image1.jpeg" ContentType="image/jpeg"/>
  <Override PartName="/ppt/media/image15.png" ContentType="image/png"/>
  <Override PartName="/ppt/media/image17.wmf" ContentType="image/x-wmf"/>
  <Override PartName="/ppt/media/image19.wmf" ContentType="image/x-wmf"/>
  <Override PartName="/ppt/media/image21.wmf" ContentType="image/x-wmf"/>
  <Override PartName="/ppt/media/image2.jpeg" ContentType="image/jpeg"/>
  <Override PartName="/ppt/media/image18.wmf" ContentType="image/x-wmf"/>
  <Override PartName="/ppt/media/image20.png" ContentType="image/png"/>
  <Override PartName="/ppt/media/image22.wmf" ContentType="image/x-wmf"/>
  <Override PartName="/ppt/media/image2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7119-926D-4C92-BB61-B22897F47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7172-89E0-43C8-B981-EDC6C187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C997-5DEB-4B5B-8AB6-FD5B56CE6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9619-A7C2-4975-9AA0-2B42289CD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9250-276F-4124-B636-B253505F2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E36C-7CCF-491A-B688-302A2DF3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A194-C777-4772-AF90-927BF4A3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0EF1-94A5-4F70-B7EE-54E9D354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C947-A65B-477F-8C01-E4B2235D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6D65-1CA1-413F-96DA-F07720B9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9DC6-8733-483F-9C69-7692F36C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801B-A72D-47C7-96D7-DEA29A07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88E9-0EC0-4C16-99F4-521B58CE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D60C-4827-4F2D-B41D-E0362C47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A9EC-11E0-42FF-8249-8DAEA1E8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BEE7-34FA-458B-9109-0928F46AA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9D91-F067-4E61-A420-3F3531F70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E21E-2241-4129-B36E-3B87624A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57E3AF-E4DF-449A-B313-272905402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99991F-A101-40E1-BDDA-002782AA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3197C8-6BA0-427F-8570-01770AFB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13F3-2C96-4538-B6E3-DD78D8F3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D66AB0-46BB-4412-BCDD-43E5CBE1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1E5EF0-65E6-45AD-8C52-B6185792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0C617F-DE02-4BC7-A116-D4D98159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6DDF18-C77F-43BB-85F0-F8E62A1E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2398DE-1131-44CD-9903-3F643199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5E116D-3A85-4BAC-AF81-6E09AA10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8DDFEF-4E5F-4880-AD8E-1E0151AF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3DD86C-E11C-43C2-9BF4-D35B0EE06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BAAD68-16F3-4276-A9E1-2763278E3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B4B4-964E-4ECC-9AFC-384FEB01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A567-F79A-4411-9DA5-6912CE2D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B80A-C0E4-4162-A88E-A6907268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B60E-AA58-43E1-99A5-2CD3641B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A612-01CB-433F-B9CC-02C49075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FB77-C584-443A-A26F-6DABE2DF23B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9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53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AutoShape 8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7"/>
            <p:cNvSpPr/>
            <p:nvPr/>
          </p:nvSpPr>
          <p:spPr>
            <a:xfrm>
              <a:off x="8248320" y="4889520"/>
              <a:ext cx="2606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4AF2-1DD5-43B3-A5A4-F698A64FBD5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107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AutoShape 8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" name=""/>
          <p:cNvGrpSpPr/>
          <p:nvPr/>
        </p:nvGrpSpPr>
        <p:grpSpPr>
          <a:xfrm>
            <a:off x="0" y="4156200"/>
            <a:ext cx="2771640" cy="2701800"/>
            <a:chOff x="0" y="4156200"/>
            <a:chExt cx="2771640" cy="2701800"/>
          </a:xfrm>
        </p:grpSpPr>
        <p:sp>
          <p:nvSpPr>
            <p:cNvPr id="110" name="Freeform 18"/>
            <p:cNvSpPr/>
            <p:nvPr/>
          </p:nvSpPr>
          <p:spPr>
            <a:xfrm>
              <a:off x="0" y="4228560"/>
              <a:ext cx="2771640" cy="262188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ffffff"/>
                </a:gs>
                <a:gs pos="100000">
                  <a:srgbClr val="006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9"/>
            <p:cNvSpPr/>
            <p:nvPr/>
          </p:nvSpPr>
          <p:spPr>
            <a:xfrm>
              <a:off x="0" y="4156200"/>
              <a:ext cx="2399040" cy="2701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66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0"/>
            <p:cNvSpPr/>
            <p:nvPr/>
          </p:nvSpPr>
          <p:spPr>
            <a:xfrm>
              <a:off x="0" y="4558680"/>
              <a:ext cx="2257560" cy="229176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ffffff"/>
                </a:gs>
                <a:gs pos="100000">
                  <a:srgbClr val="006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1"/>
            <p:cNvSpPr/>
            <p:nvPr/>
          </p:nvSpPr>
          <p:spPr>
            <a:xfrm>
              <a:off x="0" y="4281120"/>
              <a:ext cx="2257560" cy="256932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ffffff"/>
                </a:gs>
                <a:gs pos="100000">
                  <a:srgbClr val="006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2"/>
            <p:cNvSpPr/>
            <p:nvPr/>
          </p:nvSpPr>
          <p:spPr>
            <a:xfrm>
              <a:off x="270360" y="4630320"/>
              <a:ext cx="110880" cy="123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3"/>
            <p:cNvSpPr/>
            <p:nvPr/>
          </p:nvSpPr>
          <p:spPr>
            <a:xfrm>
              <a:off x="1987200" y="6229800"/>
              <a:ext cx="118800" cy="13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4"/>
            <p:cNvSpPr/>
            <p:nvPr/>
          </p:nvSpPr>
          <p:spPr>
            <a:xfrm>
              <a:off x="1023120" y="4541400"/>
              <a:ext cx="155160" cy="175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Picture 29" descr="konglong2"/>
          <p:cNvPicPr/>
          <p:nvPr/>
        </p:nvPicPr>
        <p:blipFill>
          <a:blip r:embed="rId2"/>
          <a:stretch/>
        </p:blipFill>
        <p:spPr>
          <a:xfrm>
            <a:off x="73080" y="6068880"/>
            <a:ext cx="682560" cy="6732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7"/>
          </p:nvPr>
        </p:nvSpPr>
        <p:spPr>
          <a:xfrm>
            <a:off x="3203640" y="6284880"/>
            <a:ext cx="295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单片微机原理及应用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教学课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58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59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162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AutoShape 8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0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EAC4-4EE6-453A-99C9-65520DA987E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红外遥控的单片机解码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NEC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码编码原理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注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为了降低电源功耗，遥控器脉宽调制的编码经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8kHz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载波经二次调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解码时代码格式应以接收代码为准（接收代码与发射代码反向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RC5_5"/>
          <p:cNvPicPr/>
          <p:nvPr/>
        </p:nvPicPr>
        <p:blipFill>
          <a:blip r:embed="rId1"/>
          <a:stretch/>
        </p:blipFill>
        <p:spPr>
          <a:xfrm>
            <a:off x="1116000" y="1486080"/>
            <a:ext cx="7488360" cy="49672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817560" y="60480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RC5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编码相对简单一些：</a:t>
            </a:r>
            <a:br>
              <a:rPr sz="3600"/>
            </a:b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下面的遥控器地址是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1A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，键值是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0D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的波形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882720" y="244440"/>
            <a:ext cx="781344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反相后的波形：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RC5_4"/>
          <p:cNvPicPr/>
          <p:nvPr/>
        </p:nvPicPr>
        <p:blipFill>
          <a:blip r:embed="rId1"/>
          <a:stretch/>
        </p:blipFill>
        <p:spPr>
          <a:xfrm>
            <a:off x="826920" y="1270080"/>
            <a:ext cx="7777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编码规则：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RC5_2"/>
          <p:cNvPicPr/>
          <p:nvPr/>
        </p:nvPicPr>
        <p:blipFill>
          <a:blip r:embed="rId1"/>
          <a:stretch/>
        </p:blipFill>
        <p:spPr>
          <a:xfrm>
            <a:off x="1332000" y="2421000"/>
            <a:ext cx="6192720" cy="36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得到一组数字：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110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11010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001101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RC5_1"/>
          <p:cNvPicPr/>
          <p:nvPr/>
        </p:nvPicPr>
        <p:blipFill>
          <a:blip r:embed="rId1"/>
          <a:stretch/>
        </p:blipFill>
        <p:spPr>
          <a:xfrm>
            <a:off x="1908000" y="2781360"/>
            <a:ext cx="46198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一位是起始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常是逻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二位是场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常为逻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扩展模式下它将最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位命令代码扩充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位代码（高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，这样可以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键值扩充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键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三位是控制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它在每按下了一个键后翻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样就可以区分一个键到底是一直按着没松手还是松手后重复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图所示是同一按键重复按两次所得波形，只有第三位是相反的逻辑，其它的位逻辑都一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市场上常用红外一体化接收头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547344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其后是五个系统地址位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:11010=1A</a:t>
            </a:r>
            <a:br>
              <a:rPr sz="3600"/>
            </a:b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最后是六个命令位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:001101=0D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RC5_7"/>
          <p:cNvPicPr/>
          <p:nvPr/>
        </p:nvPicPr>
        <p:blipFill>
          <a:blip r:embed="rId1"/>
          <a:stretch/>
        </p:blipFill>
        <p:spPr>
          <a:xfrm>
            <a:off x="2050920" y="2349360"/>
            <a:ext cx="441036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红外遥控的解码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红外遥控信号的接收，可以使用一种集红外接收和放大于一体的一体化红外线接收器，无需任何外接元件，就可以输出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T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电平兼容的信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比如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S_1838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NEC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码的解码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S_1838b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红外一体化接收头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365360" y="2707920"/>
            <a:ext cx="4383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引脚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N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工作电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cc 2.7~ 5.5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接收距离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8  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载波频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38k 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低电平输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 Vin=0V Vcc=5V 0.2 0.4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高电平输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H Vcc=5V 4.5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6" descr=""/>
          <p:cNvPicPr/>
          <p:nvPr/>
        </p:nvPicPr>
        <p:blipFill>
          <a:blip r:embed="rId1"/>
          <a:srcRect l="0" t="0" r="46837" b="0"/>
          <a:stretch/>
        </p:blipFill>
        <p:spPr>
          <a:xfrm>
            <a:off x="1549440" y="2492280"/>
            <a:ext cx="19429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10720" y="-258840"/>
            <a:ext cx="78138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一、红外线概述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208" name="Picture 4" descr="8cf0d5130a914130dc54017d"/>
          <p:cNvPicPr/>
          <p:nvPr/>
        </p:nvPicPr>
        <p:blipFill>
          <a:blip r:embed="rId1"/>
          <a:stretch/>
        </p:blipFill>
        <p:spPr>
          <a:xfrm>
            <a:off x="1403280" y="836640"/>
            <a:ext cx="727236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S_1838b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红外一体化接收头</a:t>
            </a:r>
            <a:endParaRPr b="1" lang="en-US" sz="2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s_1838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与单片机的连接电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Object 4"/>
          <p:cNvGraphicFramePr/>
          <p:nvPr/>
        </p:nvGraphicFramePr>
        <p:xfrm>
          <a:off x="1042920" y="2852640"/>
          <a:ext cx="8101080" cy="28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852640"/>
                    <a:ext cx="8101080" cy="28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Text Box 6"/>
          <p:cNvSpPr/>
          <p:nvPr/>
        </p:nvSpPr>
        <p:spPr>
          <a:xfrm>
            <a:off x="1384200" y="5954760"/>
            <a:ext cx="67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注意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S_1838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初状态（空闲状态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引脚输出为高电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NEC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码的解码</a:t>
            </a:r>
            <a:br>
              <a:rPr sz="3200"/>
            </a:b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——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S_1838b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红外一体化接收头</a:t>
            </a:r>
            <a:endParaRPr b="1" lang="en-US" sz="24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269" name="Object 4" descr=""/>
          <p:cNvPicPr/>
          <p:nvPr/>
        </p:nvPicPr>
        <p:blipFill>
          <a:blip r:embed="rId1"/>
          <a:stretch/>
        </p:blipFill>
        <p:spPr>
          <a:xfrm>
            <a:off x="-1619280" y="5013360"/>
            <a:ext cx="4678560" cy="23446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75564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S_1838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输出电平格式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（注意：接收代码与发射代码反向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Object 6" descr=""/>
          <p:cNvPicPr/>
          <p:nvPr/>
        </p:nvPicPr>
        <p:blipFill>
          <a:blip r:embed="rId2"/>
          <a:stretch/>
        </p:blipFill>
        <p:spPr>
          <a:xfrm>
            <a:off x="468360" y="4735440"/>
            <a:ext cx="6048360" cy="222264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9"/>
          <p:cNvSpPr/>
          <p:nvPr/>
        </p:nvSpPr>
        <p:spPr>
          <a:xfrm>
            <a:off x="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Object 8" descr=""/>
          <p:cNvPicPr/>
          <p:nvPr/>
        </p:nvPicPr>
        <p:blipFill>
          <a:blip r:embed="rId3"/>
          <a:stretch/>
        </p:blipFill>
        <p:spPr>
          <a:xfrm>
            <a:off x="2700360" y="4653000"/>
            <a:ext cx="7053120" cy="221436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11"/>
          <p:cNvSpPr/>
          <p:nvPr/>
        </p:nvSpPr>
        <p:spPr>
          <a:xfrm>
            <a:off x="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Object 10" descr=""/>
          <p:cNvPicPr/>
          <p:nvPr/>
        </p:nvPicPr>
        <p:blipFill>
          <a:blip r:embed="rId4"/>
          <a:stretch/>
        </p:blipFill>
        <p:spPr>
          <a:xfrm>
            <a:off x="1619280" y="2889360"/>
            <a:ext cx="4896000" cy="197964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13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Object 12" descr=""/>
          <p:cNvPicPr/>
          <p:nvPr/>
        </p:nvPicPr>
        <p:blipFill>
          <a:blip r:embed="rId5"/>
          <a:stretch/>
        </p:blipFill>
        <p:spPr>
          <a:xfrm>
            <a:off x="3706920" y="2924280"/>
            <a:ext cx="5905440" cy="18460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16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Object 15" descr=""/>
          <p:cNvPicPr/>
          <p:nvPr/>
        </p:nvPicPr>
        <p:blipFill>
          <a:blip r:embed="rId6"/>
          <a:stretch/>
        </p:blipFill>
        <p:spPr>
          <a:xfrm>
            <a:off x="-1762200" y="3213000"/>
            <a:ext cx="481824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NEC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码的解码</a:t>
            </a:r>
            <a:br>
              <a:rPr sz="3200"/>
            </a:b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——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S_1838b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红外一体化接收头</a:t>
            </a:r>
            <a:endParaRPr b="1" lang="en-US" sz="2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如：码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1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、收编码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5" descr=""/>
          <p:cNvPicPr/>
          <p:nvPr/>
        </p:nvPicPr>
        <p:blipFill>
          <a:blip r:embed="rId1"/>
          <a:stretch/>
        </p:blipFill>
        <p:spPr>
          <a:xfrm>
            <a:off x="826920" y="3060720"/>
            <a:ext cx="8137800" cy="3247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13"/>
          <p:cNvPicPr/>
          <p:nvPr/>
        </p:nvPicPr>
        <p:blipFill>
          <a:blip r:embed="rId2"/>
          <a:stretch/>
        </p:blipFill>
        <p:spPr>
          <a:xfrm>
            <a:off x="8604360" y="6345360"/>
            <a:ext cx="53964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NEC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码的解码</a:t>
            </a:r>
            <a:br>
              <a:rPr sz="3200"/>
            </a:b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——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S_1838b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红外一体化接收头</a:t>
            </a:r>
            <a:endParaRPr b="1" lang="en-US" sz="2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接收到的（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VS_1838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输出的）数据帧格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Object 4" descr=""/>
          <p:cNvPicPr/>
          <p:nvPr/>
        </p:nvPicPr>
        <p:blipFill>
          <a:blip r:embed="rId1"/>
          <a:stretch/>
        </p:blipFill>
        <p:spPr>
          <a:xfrm>
            <a:off x="865080" y="3816360"/>
            <a:ext cx="8315280" cy="17305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6"/>
          <p:cNvSpPr/>
          <p:nvPr/>
        </p:nvSpPr>
        <p:spPr>
          <a:xfrm>
            <a:off x="1836360" y="6021360"/>
            <a:ext cx="41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注意：数据输出低位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在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高位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在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9"/>
          <p:cNvSpPr/>
          <p:nvPr/>
        </p:nvSpPr>
        <p:spPr>
          <a:xfrm>
            <a:off x="1995120" y="105480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遥控信号的解码算法及编程思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"/>
          <p:cNvSpPr/>
          <p:nvPr/>
        </p:nvSpPr>
        <p:spPr>
          <a:xfrm>
            <a:off x="971640" y="2643120"/>
            <a:ext cx="7589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解码的关键是如何识别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从位的定义可以发现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均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56m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低电平开始，不同的是高电平的宽度不同，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56ms,“1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68m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所以必须根据高电平的宽度区别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9"/>
          <p:cNvSpPr/>
          <p:nvPr/>
        </p:nvSpPr>
        <p:spPr>
          <a:xfrm>
            <a:off x="2088360" y="1270080"/>
            <a:ext cx="463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遥控信号的解码算法及编程思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1"/>
          <p:cNvSpPr/>
          <p:nvPr/>
        </p:nvSpPr>
        <p:spPr>
          <a:xfrm>
            <a:off x="1116000" y="2826000"/>
            <a:ext cx="712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解码过程具体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初始化外部中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或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为下降沿中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进入外部中断服务程序，关闭外部中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对引导码进行判断。如果引导码正确，准备接收下面的一     帧遥控数据，以查询方式判断遥控的数据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还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如果非引导码，则退出外部中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9"/>
          <p:cNvSpPr/>
          <p:nvPr/>
        </p:nvSpPr>
        <p:spPr>
          <a:xfrm>
            <a:off x="2088360" y="1270080"/>
            <a:ext cx="463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遥控信号的解码算法及编程思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1116000" y="3191760"/>
            <a:ext cx="659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先后依次接收地址码、地址反码、数据码、数据反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当接收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位数据时，说明一帧数据接收完毕。比较数据码和数据反码，若数据码取反后与数据反码不同，则表示为无效数据，应放弃本次接收数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开启外部中断，准备下一次遥控接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查询方式与上述过程中的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一致，这里不再重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792720" y="370080"/>
            <a:ext cx="7698240" cy="6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395280" y="4797360"/>
            <a:ext cx="777708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、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P3.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）可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IT0(TCON.0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选择其为低电平有效还是下降沿有效。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CPU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检测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P3.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引脚上出现有效的中断信号时，中断标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IE0(TCON.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，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CPU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申请中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Object 3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75640" cy="4349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301680" y="1752480"/>
            <a:ext cx="4191120" cy="42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Rectangle 10" descr=""/>
          <p:cNvPicPr/>
          <p:nvPr/>
        </p:nvPicPr>
        <p:blipFill>
          <a:blip r:embed="rId1"/>
          <a:stretch/>
        </p:blipFill>
        <p:spPr>
          <a:xfrm>
            <a:off x="5724360" y="5738760"/>
            <a:ext cx="1368720" cy="476280"/>
          </a:xfrm>
          <a:prstGeom prst="rect">
            <a:avLst/>
          </a:prstGeom>
          <a:ln w="0">
            <a:noFill/>
          </a:ln>
        </p:spPr>
      </p:pic>
      <p:sp>
        <p:nvSpPr>
          <p:cNvPr id="302" name="Oval 4"/>
          <p:cNvSpPr/>
          <p:nvPr/>
        </p:nvSpPr>
        <p:spPr>
          <a:xfrm>
            <a:off x="3809880" y="4724280"/>
            <a:ext cx="1143000" cy="38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539640" y="620640"/>
            <a:ext cx="8136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时器工作方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方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计数位数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位，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为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位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为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位，组成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位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数器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Object 8" descr=""/>
          <p:cNvPicPr/>
          <p:nvPr/>
        </p:nvPicPr>
        <p:blipFill>
          <a:blip r:embed="rId2"/>
          <a:stretch/>
        </p:blipFill>
        <p:spPr>
          <a:xfrm>
            <a:off x="826920" y="2133720"/>
            <a:ext cx="7632720" cy="317952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9"/>
          <p:cNvSpPr/>
          <p:nvPr/>
        </p:nvSpPr>
        <p:spPr>
          <a:xfrm>
            <a:off x="539640" y="5661000"/>
            <a:ext cx="52563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数个数与计数初值的关系为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817560" y="68580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二、红外遥控技术简介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特点：无线、非接触控制技术，体积小，功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低，功能强，成本低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应用：１、家用电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２、玩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工业设备（高压、辐射、有毒、粉尘等环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01680" y="380880"/>
            <a:ext cx="8540640" cy="56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定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计数器应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初始化程序应完成如下工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MO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赋值，以确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工作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算初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将其写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断方式时，则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赋值，开放中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置位，启动定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数器定时或计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"/>
          <p:cNvPicPr/>
          <p:nvPr/>
        </p:nvPicPr>
        <p:blipFill>
          <a:blip r:embed="rId1"/>
          <a:stretch/>
        </p:blipFill>
        <p:spPr>
          <a:xfrm>
            <a:off x="1878120" y="380880"/>
            <a:ext cx="5387760" cy="5641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实验电路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片机最小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信模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红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S003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显示电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红外接收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1"/>
          <a:stretch/>
        </p:blipFill>
        <p:spPr>
          <a:xfrm>
            <a:off x="2124000" y="2708280"/>
            <a:ext cx="424836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LED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指示灯电路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1619280" y="2357280"/>
            <a:ext cx="5905440" cy="42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ISP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在线编程接口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—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RS232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通讯电路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75153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结束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红外遥控系统组成及编码分类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射部分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键盘、编码调制、红外发送器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组成：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接收部分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光电转换放大器、解调、解码电路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按编码分类：主要分为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C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2340000" y="256536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C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格式的特征：</a:t>
            </a:r>
            <a:endParaRPr b="1" lang="en-US" sz="4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使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8 kHz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载波频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引导码间隔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ms + 4.5 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使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位客户代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使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位数据代码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位取反的数据代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面的波形是从红外接收头上得到的波形：（调制信号转变成高低电平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108000" y="620640"/>
            <a:ext cx="885672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34920" y="1413000"/>
            <a:ext cx="8569440" cy="51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NEC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码编码原理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数据帧结构（组成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0" y="24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Object 4"/>
          <p:cNvGraphicFramePr/>
          <p:nvPr/>
        </p:nvGraphicFramePr>
        <p:xfrm>
          <a:off x="720720" y="2924280"/>
          <a:ext cx="9468000" cy="366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2924280"/>
                    <a:ext cx="9468000" cy="36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NEC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码编码原理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二进制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表示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4"/>
          <p:cNvGraphicFramePr/>
          <p:nvPr/>
        </p:nvGraphicFramePr>
        <p:xfrm>
          <a:off x="-1187280" y="3284640"/>
          <a:ext cx="6619680" cy="29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87280" y="3284640"/>
                    <a:ext cx="6619680" cy="29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Rectangle 7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Object 6"/>
          <p:cNvGraphicFramePr/>
          <p:nvPr/>
        </p:nvGraphicFramePr>
        <p:xfrm>
          <a:off x="2050920" y="3384720"/>
          <a:ext cx="7715520" cy="256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3384720"/>
                    <a:ext cx="771552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5" name="Picture 8" descr="12"/>
          <p:cNvPicPr/>
          <p:nvPr/>
        </p:nvPicPr>
        <p:blipFill>
          <a:blip r:embed="rId5"/>
          <a:stretch/>
        </p:blipFill>
        <p:spPr>
          <a:xfrm>
            <a:off x="8317080" y="6021360"/>
            <a:ext cx="43164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4T08:48:08Z</dcterms:created>
  <dc:creator>User</dc:creator>
  <dc:description/>
  <dc:language>en-US</dc:language>
  <cp:lastModifiedBy>微软用户</cp:lastModifiedBy>
  <cp:lastPrinted>1899-12-30T00:00:00Z</cp:lastPrinted>
  <dcterms:modified xsi:type="dcterms:W3CDTF">2012-02-08T18:11:46Z</dcterms:modified>
  <cp:revision>26</cp:revision>
  <dc:subject/>
  <dc:title>红外遥控的单片机解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